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538-F2EB-4F70-8BBA-EAC558DA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F24-0932-4743-A621-351BC9F3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CF3-CBCF-45E1-9494-3C1CC268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4BB-2F34-490C-B6E0-3D23CD54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1A95-1793-4EA3-A434-429FE1FD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6F0A-FB94-46E0-821C-023FA20D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33E4-1FB8-4266-92EC-C4591A47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0ED8-4562-493A-8A84-D3DB57F6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5A7A-7A6E-431E-A665-1F4A25F3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9FE8-B615-4B79-81BB-7D97015D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8D00-2880-4A58-811B-AECCD918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727-C556-4F35-9AA4-120A1AC3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1EA0-88C4-4B45-817D-7EA2C6DE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E5FE-A7C7-4777-A17F-D95165C6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7263-1EAD-4DB8-8631-B313DC85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B7BD-1278-432B-A403-5358BCF1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26E5-F9EE-44D8-A23C-78D10D80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4A2-CB0C-42F0-9FD5-AE133618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2FF-5E9C-4143-8A27-D1629A04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B37-318D-458C-B367-D6DE4990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89B-2259-4070-9963-A7D5A43F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870-2C2B-4771-BF1A-9EF35E8B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93E-E360-4E9C-A6E2-6BEB3325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9CA-98C1-439C-AEA0-C9B297AA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BD27-F8AB-4D07-B0A0-891E649CD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EBC3-E050-4884-94D1-AB92F8AA4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Arial Black"/>
              </a:rPr>
              <a:t>8.2  </a:t>
            </a:r>
            <a:br>
              <a:rPr sz="8800"/>
            </a:br>
            <a:br>
              <a:rPr sz="8800"/>
            </a:br>
            <a:r>
              <a:rPr b="1" lang="en-US" sz="8800" spc="-1" strike="noStrike">
                <a:solidFill>
                  <a:srgbClr val="ffffb7"/>
                </a:solidFill>
                <a:latin typeface="Arial Black"/>
              </a:rPr>
              <a:t>Secondary </a:t>
            </a:r>
            <a:br>
              <a:rPr sz="8800"/>
            </a:br>
            <a:r>
              <a:rPr b="1" lang="en-US" sz="8800" spc="-1" strike="noStrike">
                <a:solidFill>
                  <a:srgbClr val="ffffb7"/>
                </a:solidFill>
                <a:latin typeface="Arial Black"/>
              </a:rPr>
              <a:t>Industries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cation Fac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Industries that set up in Canada consider several factors in deciding where to locate their fa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cess 5 major th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cation Fac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884556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1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skilled employ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cation Fac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1219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supporting industries (parts pla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cation Fac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12193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final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cation Fac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" y="11430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export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cation Fac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8845560" cy="4952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1295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well developed transportation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Industr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 the processing of primary industry products into finished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important secondary industry is manufacturing, which is responsible for making the enormous range of products needed by consumers and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Industr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s 21.6% of the work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facturing employs 2 million employe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employees in construction alone than in all of the primary industries combined 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jor kind of secondary indust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Industr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4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industries also contribute to Canadian economy by producing goods for ex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are things that are sold to people on other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exports today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jor Expor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69328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88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1.  Petroleum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jor Expor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3520" y="19810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2 Passenger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jor Expor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8845560" cy="4952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295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Car Parts and Access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jor Expor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884556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4 Aluminum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jor Expor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16960" cy="4952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5 L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05:01:37Z</dcterms:created>
  <dc:creator>Amanda</dc:creator>
  <dc:description/>
  <dc:language>en-US</dc:language>
  <cp:lastModifiedBy>Amanda</cp:lastModifiedBy>
  <dcterms:modified xsi:type="dcterms:W3CDTF">2011-01-05T05:47:15Z</dcterms:modified>
  <cp:revision>2</cp:revision>
  <dc:subject/>
  <dc:title>8.2    Secondary  Industries</dc:title>
</cp:coreProperties>
</file>